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dt" idx="3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ftr" idx="3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 type="sldNum" idx="3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F26D-00D6-405D-8915-76D1925A4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Each 10-person table at Grove Park counts off 1-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One’s take question 1-</a:t>
            </a:r>
            <a:r>
              <a:rPr b="1" lang="en-US" sz="1200" spc="-1" strike="noStrike">
                <a:solidFill>
                  <a:srgbClr val="00467a"/>
                </a:solidFill>
                <a:latin typeface="Arial"/>
                <a:ea typeface="Arial"/>
              </a:rPr>
              <a:t> What do we want students to lea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Two’s take Question 2- </a:t>
            </a:r>
            <a:r>
              <a:rPr b="1" lang="en-US" sz="1200" spc="-1" strike="noStrike">
                <a:solidFill>
                  <a:srgbClr val="00467a"/>
                </a:solidFill>
                <a:latin typeface="Arial"/>
                <a:ea typeface="Arial"/>
              </a:rPr>
              <a:t>How will we know when they have learn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Three’s take Question 3- </a:t>
            </a:r>
            <a:r>
              <a:rPr b="1" lang="en-US" sz="1200" spc="-1" strike="noStrike">
                <a:solidFill>
                  <a:srgbClr val="000000"/>
                </a:solidFill>
                <a:latin typeface="Sylfaen"/>
              </a:rPr>
              <a:t>How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200" spc="-1" strike="noStrike">
                <a:solidFill>
                  <a:srgbClr val="00467a"/>
                </a:solidFill>
                <a:latin typeface="Arial"/>
                <a:ea typeface="Arial"/>
              </a:rPr>
              <a:t>will we respond when they don’t lear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Four’s take Question 4- </a:t>
            </a:r>
            <a:r>
              <a:rPr b="1" lang="en-US" sz="1200" spc="-1" strike="noStrike">
                <a:solidFill>
                  <a:srgbClr val="00467a"/>
                </a:solidFill>
                <a:latin typeface="Arial"/>
                <a:ea typeface="Arial"/>
              </a:rPr>
              <a:t>How will we respond when they already know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e, Monitor, Support teams as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0BE6-0356-4113-BC8D-8FE1A0E8D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r, you considered what you already have, and added some things to colum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think about the conversation you just had, and consider you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se ideas in columns two and th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ng the items on this page, what emerges as a strong need, that it may be important to address soon in your distri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set as a Local Curriculum priority for your district to support/improve the work of your teachers and PL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ive 10 minutes for pairs to work together, then share with whole district/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ove to: Popcorn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A173-625F-4C34-824E-75FEADB81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F53-19DD-446D-AE81-629724E4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8B1-3159-4336-A528-67AB2F24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CFC-FBD6-4818-B63D-E2761E94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5A3-7E2F-40AC-A396-49C3E101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C954A0-86BE-4463-8684-62CB6C34977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5BA945-CC67-478F-BCA9-706999930FA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E6C9D8-008E-4C3C-B574-8351AED2CC2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22C280-1917-4D9A-858E-57B3A455964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53973C-FCA4-48A8-BAD5-0B9622ACAAC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8495BB-C186-491D-B2A9-DAEE7BAF9DD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195C33-6CC3-4630-AB8F-156F3E7EA6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2FA3F4-EFA2-461D-9E1F-E8A84F6DD2A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37251E-FCB1-41A8-B39E-C04EA584BCC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6C4F38-0CE8-4D80-A82C-2507AC2A83A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DBD08A-5579-46E5-A661-D2202CE51EA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F0E367-B0B7-4133-A4DA-01FEB926141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7B723-7C73-4FE4-9AC2-DD523370D22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2E6CA-F311-42D5-B6D3-984435F2837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369F1-A037-46C9-893C-830E4C1BEA9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2FC9F-45D8-4715-8A08-3B58594B236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38D3B-FC48-4500-946C-CE408B7519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0D347B-879C-4D1D-BC4C-A3091EB5BC2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FC25FD-6AA8-4341-A5A5-3C4DCEBD487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47CF0-2F2E-4752-A4D3-CFC94C9737C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9DEA6-B60F-4C99-8C71-2B4F96A7FAF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B9DA6-4EBD-4993-886A-32E5094D9D9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2496BA-4208-4309-9221-5AF85D12EFB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6F87E-91D0-44DE-8D3C-56460C05F71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A3EBC7-850D-4278-A5EC-E355B906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28115F-91A9-4DB7-BDF4-8CBB9A8F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FB0C3C-1EED-47A5-8AAB-2F6C743E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F9750C-CD2E-4D72-BD1C-414CDB9E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7A92BC-965A-4DCA-891A-9DB06372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5905D5-E3F5-436C-8B9C-4761C362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9D0562-62F4-4DDA-B9C5-4C8B3C2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52BF13-0134-450E-8D0C-7DAA5539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C3EC3D-9B04-43CF-AB57-F0FDD6BE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0ED89-5763-49F2-82DE-11578483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503350-FEF3-487E-9BAC-7C3CAA2D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78216C-87A3-400F-8454-3B5AD76C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CF4752-FB8C-4F76-AD5E-2874E97A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4ECE2D-4CD2-46EC-A5DE-206C321B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F50484-5118-4DBF-A35E-99D0EAB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39A84-5D55-42F6-8244-AE481747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417C80-865F-43B7-9230-D187EAD9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DEE1B0-C07C-45CB-B371-27433CF1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0708EF-0204-4C52-8172-C48213E5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E53-D2E9-4E2D-92B2-F44C43DB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53BD7D-D939-4CA8-BB8D-647E781C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F000F1-0DEA-4406-91AE-80BF3FB2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E6A3E1-F3D1-448E-913A-2DA3C267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08B3B5-DB61-4C77-98D5-4AFC38D7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801774-9E26-40FF-AA32-DDE06926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0B0D7C-2967-43BC-A771-F2869C66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605683-4546-47BB-B9FF-832698B8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F23292-7AE5-4EE4-B467-D768FCA9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BBACBF-463B-4CA4-8B8C-E0F65FEA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4B0029-8873-4B81-9826-866DD1AF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63DFA2-5FE2-4357-AE56-5E79748E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1C0183-53A3-44B1-8AF2-AFDE3C7D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E6A111-112D-474D-8256-865A43A3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34BD0F-6460-4E15-AB82-04715DAC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628651-DE0F-49CE-878B-C2A8CB67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A700FA-1B9A-401B-9793-087E4452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D85EA1-2410-4669-A430-63BF597C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C56E20-5EA5-4AC8-8E52-ABE2EC56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4671D2-6515-4D29-9F44-01972109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5CF232-F49B-4AF2-82D6-9851860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069A20-C1C3-4AD8-B052-05241F48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539ADC-7695-4E4E-BF65-E1A4FAF2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584916-3B6B-4B38-9556-BD07DAED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324F3F-DB4B-4366-A277-8DD7425B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8CC34F-FCB8-49B3-8F5C-F2645647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966819-DE5C-4AA0-9FD1-099B264B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078C68-D62F-4D60-ACFB-469222D9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39B3C6-7DCA-48F4-A8EF-0CB3AD82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AD4E3A-DDB9-4086-B659-60BEA9DB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40DF20-DA30-4B2A-B6B4-541A2520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3DDADB-30E3-4A34-AF3C-FCE27211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48B851-7274-4577-BBF7-1B555600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E609EA-1FED-46FB-B0B4-0F575E11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995D9E-7CDC-4895-BADF-A87EAC9D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8E1621-0C10-49ED-B15F-9F435F64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679FD9-2CCE-486E-9496-EE9A5B5D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58F51E-8744-4CF8-91F9-0AB047B8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5B7F4B-BD06-4323-B84F-6D3A1468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D1EBE5-9DED-4FB2-B74D-BAD4524E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9132A7-2963-49B3-A8D0-9C7873B3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ABAAF9-6E44-48E5-A151-70C7C77E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EF8-5C9C-4A2F-A3D6-B28C30E1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82D5-1AB6-4C09-BD96-5224E5A0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84F-E696-441B-861C-BF6C6532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3302-0DF1-4300-8867-33E974CC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4E3-DD64-4F6F-B2C0-4E155897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2373-4553-4520-BBD4-C33BD62D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64C0-7851-4797-B35C-CCCCBE0F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041E-4310-4F0E-82D6-7B1B1B61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0C8B-2756-4963-9453-C49F926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0D75-0727-4A0F-A490-BD63782F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8ABC-2619-43C0-A75C-E40A3407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1289-5B8A-44AA-B00F-8AC08568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AFCC-AF07-469C-841A-F9D2D060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8198-79AC-4FD2-ADA8-4437DE92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D298-E4F2-4FE2-AF2B-9A9C8DF4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0E1-1B1B-4510-B994-39A13C97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4E32-6DD8-4CA2-8336-FD41CBA2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E066-1AF7-4680-AA78-4ACCF33C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F44FF-23DC-454A-8C1C-E8188C1B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7A90-D26C-4539-B202-90204611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F083-9704-4E02-AB87-BD42428A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D017-D4E8-40FD-BDE3-6B5C0F53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8BF2B-5546-4F28-A80B-B8950703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2C8C-BA0B-4F1F-911D-ACD51FE7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8A2F-C155-40C1-B8EA-A0AFCBD3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7EA2-1A12-4C9F-A5C0-4EFA5580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29C-5978-4EBF-A088-C7976A90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8099-A0F4-4838-8463-86CFE265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484F-9A44-4391-821F-617D3E36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053B6-98A7-42F0-9AAD-DB03FE2F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1135B-879A-4DE3-A938-DA775ACC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DFA0F-C67A-4124-8B68-4E80ED97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B7FCD-8C8C-40F5-B34E-3F184D0D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C43B2-D1ED-49AF-98A0-762D0CCB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834A7-9DF9-414F-9B95-CD64F9F1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8AB13-A333-4617-A18C-5E50D80D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0D6D-D6E4-42F7-A367-5DA7C737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68B6-93DC-41EA-A5D9-AA51D684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B29A1-41AF-429A-A4D8-761BDFCB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E018-B0DF-4968-AB0E-6E9EF052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6827-4AFD-4CC0-A6DF-9B22BF66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30B9A-9466-424F-BB3A-84E8DB45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2FABC-7D88-47E2-A9AC-2AC92ADE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E18FB-32E4-48E2-85D1-4B935DFE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44CED-4D7A-45A4-BA52-BB46A130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6F19-AF83-4F4A-AD99-149AE27E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B24AF-380A-48FB-A777-E537A5DA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5DC23-5AC2-4B4F-B20F-F617BF83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9BF-317D-4DE7-AA78-78D5EFCF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281B-ECC7-4FCB-9AA3-6D0A637C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BA74F-4BEB-4E71-A8E1-7F327D04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E811-D9D4-431C-88EE-B1EF1236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405AA-F8C0-42CC-A588-6A9D396E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D847D-AB7E-4749-A742-986D3543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97265-FD01-495C-B9BA-04C0DA98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8C012-0424-45FB-A67F-B6B91AF1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AA142-14C8-4673-B5B0-0D75E5BC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0141D-9568-42AE-BFDD-F9656107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D192E-271D-4DBB-AC67-404BF003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E15-2070-4814-918C-5223BF4B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D2671-10C4-4D4E-A238-E3ECA978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3B889-747E-4821-B77C-1C092277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66FE0-05C4-406B-BAF3-B59B37E1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AA668-B285-4A46-9F0F-9597F7EC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00673-B993-410E-8403-8D79C1E7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7D362-6800-40AA-8E3E-1B6BB7CA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A1F9F-7712-4D87-B3E6-F5970073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A04-4386-4B1C-921B-116E493C77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7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357" name="Straight Connector 9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398" name="Straight Connector 4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7" descr="CareerandCollege_FINAL.png"/>
          <p:cNvPicPr/>
          <p:nvPr/>
        </p:nvPicPr>
        <p:blipFill>
          <a:blip r:embed="rId2"/>
          <a:stretch/>
        </p:blipFill>
        <p:spPr>
          <a:xfrm>
            <a:off x="8096400" y="6189840"/>
            <a:ext cx="895320" cy="668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image_preview.jpg"/>
          <p:cNvPicPr/>
          <p:nvPr/>
        </p:nvPicPr>
        <p:blipFill>
          <a:blip r:embed="rId3"/>
          <a:stretch/>
        </p:blipFill>
        <p:spPr>
          <a:xfrm>
            <a:off x="76320" y="6400800"/>
            <a:ext cx="3809880" cy="380880"/>
          </a:xfrm>
          <a:prstGeom prst="rect">
            <a:avLst/>
          </a:prstGeom>
          <a:ln w="0">
            <a:noFill/>
          </a:ln>
        </p:spPr>
      </p:pic>
      <p:sp>
        <p:nvSpPr>
          <p:cNvPr id="438" name="Straight Connector 8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49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19"/>
          </p:nvPr>
        </p:nvSpPr>
        <p:spPr>
          <a:xfrm>
            <a:off x="36572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B580-4316-4151-8E24-9A3F430382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CareerandCollege_FINAL.png"/>
          <p:cNvPicPr/>
          <p:nvPr/>
        </p:nvPicPr>
        <p:blipFill>
          <a:blip r:embed="rId2"/>
          <a:stretch/>
        </p:blipFill>
        <p:spPr>
          <a:xfrm>
            <a:off x="8096400" y="6189840"/>
            <a:ext cx="895320" cy="6681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image_preview.jpg"/>
          <p:cNvPicPr/>
          <p:nvPr/>
        </p:nvPicPr>
        <p:blipFill>
          <a:blip r:embed="rId3"/>
          <a:stretch/>
        </p:blipFill>
        <p:spPr>
          <a:xfrm>
            <a:off x="76320" y="6400800"/>
            <a:ext cx="3809880" cy="380880"/>
          </a:xfrm>
          <a:prstGeom prst="rect">
            <a:avLst/>
          </a:prstGeom>
          <a:ln w="0">
            <a:noFill/>
          </a:ln>
        </p:spPr>
      </p:pic>
      <p:sp>
        <p:nvSpPr>
          <p:cNvPr id="480" name="Straight Connector 8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49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0"/>
          </p:nvPr>
        </p:nvSpPr>
        <p:spPr>
          <a:xfrm>
            <a:off x="36572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2EE0-7C13-40DC-9A49-34DBB5493B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7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561" name="Straight Connector 9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A5E6-F3C3-4A11-AB6E-C97FFBFF8C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0784-A373-4FFC-A04D-F091F718E7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3602-9B98-45A4-B8FF-39B1EEE80B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1791-6E5C-415A-885E-9E10E74B00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2293-E9EF-45AD-93B1-62FBA17DF7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5ECB-A817-40D7-AC26-67E5B16E72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B176-2EA1-44FE-9C29-307D4911F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C5B2-E364-4467-892A-1E56E070D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2130-14FC-456B-84EC-2141E54EA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D077-965F-4DE0-8687-BDC7C7436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online-stopwatch.com/countdown-timer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67a"/>
                </a:solidFill>
                <a:latin typeface="Calibri"/>
                <a:ea typeface="Arial"/>
              </a:rPr>
              <a:t>What is it we expect students to learn?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rriculum learning tasks need to be clearly stated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olicies and practices, regarding curriculum development, exist in the distri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resources are provided to give teachers in the district a common understanding of curricular expect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ope &amp; Sequence Ch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ing Gu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Documents/Curriculum Ma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eachers in your district know about these thing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67a"/>
                </a:solidFill>
                <a:latin typeface="Calibri"/>
                <a:ea typeface="Arial"/>
              </a:rPr>
              <a:t>How will we know when they have learned it?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re needs to be a plan to assess all areas taught , even those the state does not test</a:t>
            </a:r>
            <a:br>
              <a:rPr sz="3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olicies and practices, regarding assessment, exist in the distri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resources are provided to give teachers in the district a common set of tools for assessing student lear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Assess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tive Assess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chmark Assess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Rubr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 Task Scoring Gu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eachers in your district know about these thing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0520" y="358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67a"/>
                </a:solidFill>
                <a:latin typeface="Calibri"/>
                <a:ea typeface="Arial"/>
              </a:rPr>
              <a:t>How will we respond when they don’t learn it?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hievement gaps need to be strategically and methodically addressed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olicies and practices, regarding student support and intervention, exist in the distri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resources are provided to give teachers in the district a common set of tools for addressing achievement ga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eachers in your district know about these thing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129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7a"/>
                </a:solidFill>
                <a:latin typeface="Calibri"/>
                <a:ea typeface="Times New Roman"/>
              </a:rPr>
              <a:t>How will we respond when they already know it?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gnitive complexity and rigor should be expected and supported</a:t>
            </a:r>
            <a:br>
              <a:rPr sz="1800"/>
            </a:br>
            <a:r>
              <a:rPr b="0" lang="en-US" sz="2800" spc="-1" strike="noStrike">
                <a:solidFill>
                  <a:srgbClr val="00467a"/>
                </a:solidFill>
                <a:latin typeface="Sylfa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olicies and practices, regarding student support and enrichment, exist in the distri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resources are provided to give teachers in the district a common set of tools for addressing higher order thinking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eachers in your district know about these thing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2"/>
          <p:cNvSpPr/>
          <p:nvPr/>
        </p:nvSpPr>
        <p:spPr>
          <a:xfrm>
            <a:off x="36576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6D6A-B188-4457-A3FA-338CBCDC30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itle 1"/>
          <p:cNvSpPr/>
          <p:nvPr/>
        </p:nvSpPr>
        <p:spPr>
          <a:xfrm>
            <a:off x="304920" y="1600200"/>
            <a:ext cx="8534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651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roup  Discussion and Reflection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t your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Count off 1-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et together by numb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ach group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ake one colored c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nswer the questions on your c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Discuss and reco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 prepared to share with the gro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dentify the most urgent issue that emerges at your discus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(What do we need to work on REALLY soon?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4"/>
          <p:cNvSpPr/>
          <p:nvPr/>
        </p:nvSpPr>
        <p:spPr>
          <a:xfrm>
            <a:off x="0" y="434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hinking System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MS900074243[1].mid" descr=""/>
          <p:cNvPicPr/>
          <p:nvPr/>
        </p:nvPicPr>
        <p:blipFill>
          <a:blip r:embed="rId1"/>
          <a:stretch/>
        </p:blipFill>
        <p:spPr>
          <a:xfrm>
            <a:off x="3049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59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2"/>
          <p:cNvSpPr/>
          <p:nvPr/>
        </p:nvSpPr>
        <p:spPr>
          <a:xfrm>
            <a:off x="36576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B893-1E53-42EC-9772-1BBF9040BD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105160"/>
          </a:xfrm>
          <a:prstGeom prst="rect">
            <a:avLst/>
          </a:prstGeom>
          <a:ln w="0">
            <a:noFill/>
          </a:ln>
        </p:spPr>
      </p:pic>
      <p:sp>
        <p:nvSpPr>
          <p:cNvPr id="81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itical Questions P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6" descr="C:\Users\ERD_2\AppData\Local\Microsoft\Windows\Temporary Internet Files\Content.IE5\RVDDVPEW\MP900314301[1]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7320" y="0"/>
            <a:ext cx="1066680" cy="936720"/>
          </a:xfrm>
          <a:prstGeom prst="rect">
            <a:avLst/>
          </a:prstGeom>
          <a:ln w="0">
            <a:noFill/>
          </a:ln>
        </p:spPr>
      </p:pic>
      <p:pic>
        <p:nvPicPr>
          <p:cNvPr id="817" name="MS900074243[1].mid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6599" fill="hold"/>
                                        <p:tgtEl>
                                          <p:spTgt spid="8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9:30:24Z</dcterms:created>
  <dc:creator>Shauna Queen</dc:creator>
  <dc:description/>
  <dc:language>en-US</dc:language>
  <cp:lastModifiedBy>eedwards</cp:lastModifiedBy>
  <cp:lastPrinted>2011-02-22T19:38:04Z</cp:lastPrinted>
  <dcterms:modified xsi:type="dcterms:W3CDTF">2011-11-12T18:48:32Z</dcterms:modified>
  <cp:revision>585</cp:revision>
  <dc:subject/>
  <dc:title>PowerPoint Presentation</dc:title>
</cp:coreProperties>
</file>